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media/image7.pct" ContentType="image/x-pict"/>
  <Override PartName="/ppt/media/image6.pct" ContentType="image/x-pict"/>
  <Override PartName="/ppt/media/image11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DD4-5244-4B72-81CC-36BFB3E7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7F8-4362-4CA7-81AA-5486041A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8B5-5FFD-4250-9E0E-B49EFDC7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469-571D-4C86-B986-6D93A0FC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173-4D31-42A9-9CDE-6F213175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F5C-4031-475F-B965-5E678BBE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12F-6CD9-4695-9F81-299BC0CE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811-0B4C-443C-85A9-C0EF3059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A2C-6BD6-40CB-B446-E4D22F05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E9C-A322-4D4D-9D66-D427D17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634-C712-4C3B-9C7C-A5ABDAB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DCD-86F6-438C-B8A8-EFFB4A80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EC11-D7B4-484F-91AF-FDF3CAD0D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nonymouse.org/cgi-bin/anon-www.cgi/http://upload.wikimedia.org/wikipedia/commons/2/2b/Pavel_Milukov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anonymouse.org/cgi-bin/anon-www.cgi/http://upload.wikimedia.org/wikipedia/commons/2/2b/Pavel_Milukov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9903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Euphemia UCAS"/>
              </a:rPr>
              <a:t>The Lib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181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phemia UCAS"/>
              </a:rPr>
              <a:t>By Clara, Bing Bing, Dili, and</a:t>
            </a:r>
            <a:r>
              <a:rPr b="0" lang="en-US" sz="3200" spc="-1" strike="noStrike">
                <a:solidFill>
                  <a:srgbClr val="000000"/>
                </a:solidFill>
                <a:latin typeface="Euphemia UCA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phemia UCAS"/>
              </a:rPr>
              <a:t>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10280" y="56386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10280" y="434340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10280" y="2895480"/>
            <a:ext cx="2133720" cy="1481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144792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10280" y="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121932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0" y="259092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3962520"/>
            <a:ext cx="213372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0" y="5376960"/>
            <a:ext cx="21337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7ff12"/>
                </a:solidFill>
                <a:uFillTx/>
                <a:latin typeface="Euphemia UCAS"/>
              </a:rPr>
              <a:t>The Progressive Party / Bl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berals was also know as the Constitutional Democrats or Party of People’s Freedom (nicknamed Cadets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Euphemia UC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phemia UCAS"/>
              </a:rPr>
              <a:t>The unorganized group had not essentially formed a political party (The Cadets) until 19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tional Democratic party (Cadets) </a:t>
            </a:r>
            <a:r>
              <a:rPr b="0" lang="en-US" sz="2400" spc="-1" strike="noStrike">
                <a:solidFill>
                  <a:srgbClr val="ffffff"/>
                </a:solidFill>
                <a:latin typeface="Euphemia UCAS"/>
              </a:rPr>
              <a:t>was based on universal suff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15, the Progressive Party combined with the Cadet Party, which was named the Progressive Bl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96000" y="5157720"/>
            <a:ext cx="2448000" cy="17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2448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a8ef8"/>
                </a:solidFill>
                <a:uFillTx/>
                <a:latin typeface="Arial"/>
              </a:rPr>
              <a:t>Foll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ive party was consisted of the middle and educated classes; which included teachers, doctors, lawyers, and some industria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also a few members of the gentry (noble class)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48440" y="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aul Nikolayevich Milyuko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Euphemia UC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phemia UCAS"/>
              </a:rPr>
              <a:t>Paul Milyukov, a university lecturer, took a active part in the formation of the constitutional democratic party. He was the founder and the leader of the constitutional democratic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Image:Pavel Milu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86560" y="5013360"/>
            <a:ext cx="1657440" cy="1844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Image:Pavel Milukov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657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cc"/>
                </a:solidFill>
                <a:uFillTx/>
                <a:latin typeface="Euphemia UCAS"/>
              </a:rPr>
              <a:t>A.I Konavo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Euphemia UC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phemia UCAS"/>
              </a:rPr>
              <a:t>He was a trade and industry minister and founded the progressive party in 191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Euphemia UC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phemia UCAS"/>
              </a:rPr>
              <a:t>He was also a part of the provisional government which was overthrown in the Russian Revolu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ugust 1915 he helped to organize the Progressive Bl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028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3ff"/>
                </a:solidFill>
                <a:uFillTx/>
                <a:latin typeface="Arial"/>
              </a:rPr>
              <a:t>Goals/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main goal was to establish civil rights for all classes (freedom of speech, freedom of worship and consc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elections and a parliament to gover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sar to be a monarchy figure with no re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mocratic and capitalistic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1120" y="1986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438280" cy="176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656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ccff"/>
                </a:solidFill>
                <a:uFillTx/>
                <a:latin typeface="Arial"/>
              </a:rPr>
              <a:t>Tac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ing articles and books calling f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184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75520" y="5384880"/>
            <a:ext cx="1968480" cy="1473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2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ff"/>
                </a:solidFill>
                <a:uFillTx/>
                <a:latin typeface="Arial"/>
              </a:rPr>
              <a:t>FAMOUS QU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ulf between us and the government has become impassible. While the Duma insists that’s at home we must be organized for a successful struggle (against Germany), the government….deliberately prefers chaos and disorganization. Is this stupidity or treason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Milyukov speaking to the Duma on November 1, 19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ff"/>
                </a:solidFill>
                <a:uFillTx/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emayzine.com/lectures/russianrev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1911encyclopedia.org/Paul_Nikolayevich_Milyu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1911encyclopedia.org/Paul_Nikolayevich_Milyu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06:01:13Z</dcterms:created>
  <dc:creator>Office 2004 Test Drive User</dc:creator>
  <dc:description/>
  <dc:language>en-US</dc:language>
  <cp:lastModifiedBy>Office 2004 Test Drive User</cp:lastModifiedBy>
  <dcterms:modified xsi:type="dcterms:W3CDTF">2007-09-14T05:28:47Z</dcterms:modified>
  <cp:revision>10</cp:revision>
  <dc:subject/>
  <dc:title>The Liberals</dc:title>
</cp:coreProperties>
</file>